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76B-8F29-4791-8AD3-8E16D8E7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C93-3907-4EAF-9B61-B8C6ABF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84C-2DBE-4343-B983-F55862D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D1C-2D1B-4F8C-946E-EB9D377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6B3-6E60-46AF-A4CD-BA41490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924-562C-454C-9E9B-D7DCD4B1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081-0DAD-4209-9139-A431F76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461-6185-4762-99D0-C58943D8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29C-E33A-42D3-AE23-639474C1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F1F-5021-48F2-AFEE-D78B1BB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2CE-4245-423E-96FC-47D418E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D94-754C-463D-A206-768B7B60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FF1-B026-49A6-B6EA-F5FD9A9D4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4:50:55Z</dcterms:created>
  <dc:creator>mr</dc:creator>
  <dc:description/>
  <dc:language>en-US</dc:language>
  <cp:lastModifiedBy>mr</cp:lastModifiedBy>
  <dcterms:modified xsi:type="dcterms:W3CDTF">2001-05-09T14:59:33Z</dcterms:modified>
  <cp:revision>2</cp:revision>
  <dc:subject/>
  <dc:title>Gutenberg  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. </dc:title>
</cp:coreProperties>
</file>