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81DFE-78E2-4120-B939-EC9B960A9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F989A-A59D-4344-8D12-49A2F12B7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11B32-33B8-4693-9940-8B2FBA2D5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AAB51-777C-46BD-A730-2CBBE923B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98657-2B30-4A49-AA45-493DC144A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C6BDB-EB22-4688-BE14-8A28A261B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9FF9F-FD9B-417D-8F49-A5A0850CC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C3920-DF95-41A1-A705-483F9C747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B7326-836C-4AFA-8102-539A89710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E0F08-2128-4120-A093-313F0267C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D4022-87BD-429E-A7E4-4BFAE635A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205B2-BE4B-4E04-884B-ADBFFA4F5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C3EE0-C200-480F-84E4-27BDE78E94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" y="1720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440" y="22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440" y="2800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0" y="294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440" y="2228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kro13" descr="tiens, une Kro !!!"/>
          <p:cNvPicPr/>
          <p:nvPr/>
        </p:nvPicPr>
        <p:blipFill>
          <a:blip r:embed="rId1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9T15:29:44Z</dcterms:created>
  <dc:creator>mr</dc:creator>
  <dc:description/>
  <dc:language>en-US</dc:language>
  <cp:lastModifiedBy>mr</cp:lastModifiedBy>
  <dcterms:modified xsi:type="dcterms:W3CDTF">2001-05-09T15:32:31Z</dcterms:modified>
  <cp:revision>1</cp:revision>
  <dc:subject/>
  <dc:title>Présentation PowerPoint</dc:title>
</cp:coreProperties>
</file>