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647B-808C-43A6-A3B8-1C987BC8F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33EF-9DE2-4F95-8F69-22013326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E1DE-7A3D-4E32-9B47-F2E1206F9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40FE-F44B-4B8E-9017-7747F30EE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C84A-B08F-4070-B255-B6382AD9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FBC0-B6A3-4D7E-B08A-15F9B4BA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08A2-FA26-4C13-98BE-4B14CAE7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69AF-4BFA-41CC-8D46-2E2FF897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F126-8DB5-4C2B-8A79-5A8CA494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8761-AC68-491E-8E76-B3827091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2DA0-CDC9-48FB-94F0-EF09B0A8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8910-8A77-4EAF-A786-598BB727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D7A0-5505-4392-B801-E83692AF0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histoire.typographie.org/gutenberg/sommaire.html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6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Gutenber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gutenberg" descr="Johann Gensfleisch dit Gutenber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3" name="gutenber" descr=""/>
          <p:cNvPicPr/>
          <p:nvPr/>
        </p:nvPicPr>
        <p:blipFill>
          <a:blip r:embed="rId3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15:00:37Z</dcterms:created>
  <dc:creator>mr</dc:creator>
  <dc:description/>
  <dc:language>en-US</dc:language>
  <cp:lastModifiedBy>mr</cp:lastModifiedBy>
  <dcterms:modified xsi:type="dcterms:W3CDTF">2001-05-09T15:04:59Z</dcterms:modified>
  <cp:revision>2</cp:revision>
  <dc:subject/>
  <dc:title>Gutenberg </dc:title>
</cp:coreProperties>
</file>