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FD8-3832-4795-AEF0-4B95A65D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A06-D35D-4CC8-B4D9-77229B7F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ED1-5F53-41E1-90F3-E5ADFF4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89A-9E08-4256-B22E-866E7F2A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DC7-F312-4118-B220-D3F986BD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BF8-9B1C-4D3B-AF71-30BE2334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558-4C64-4262-A663-7AD01502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940-8BB0-4F3A-B166-B104AFBF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B84-3904-46B7-A059-F27BB131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EF4-840D-486D-BDCC-4DB09F6D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365-7963-48A3-84D9-3EB3449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D94-5FBE-4047-A417-4D733762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2F66-5EE8-43CB-A8BE-78686AECB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ire.typographie.org/gutenberg/sommaire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utenber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utenberg" descr="Johann Gensfleisch dit Gutenbe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gutenber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00:37Z</dcterms:created>
  <dc:creator>mr</dc:creator>
  <dc:description/>
  <dc:language>en-US</dc:language>
  <cp:lastModifiedBy>mr</cp:lastModifiedBy>
  <dcterms:modified xsi:type="dcterms:W3CDTF">2001-05-09T15:04:59Z</dcterms:modified>
  <cp:revision>2</cp:revision>
  <dc:subject/>
  <dc:title>Gutenberg </dc:title>
</cp:coreProperties>
</file>