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601B9-B757-4BC9-A705-994B2D634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181B2-6908-498B-B3E2-EAE4912A2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9B753-A874-4453-955E-84AB41EB9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A8D1D-CC26-4503-A2BD-6F6C881D7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9B20E-4895-460A-BD70-12021B57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9F9ED-1FD3-46AB-B225-6FFBD818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CA5C2-02EA-4807-A351-E2AAF8ACD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73367-FC44-4ADB-BD5F-484337732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1AF6-5A89-4028-9C12-861AD1444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3960F-D1A9-4117-9F6E-938B5A8EA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A2CDF-DE37-4DBD-A443-7C21BA42C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B44F6-FDFE-4495-BFF4-401EE2BCC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C41D-F6CE-4FFB-B9E6-517D34EE0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Bière</a:t>
            </a:r>
            <a:br>
              <a:rPr sz="4400"/>
            </a:br>
            <a:endParaRPr b="0" lang="en-US" sz="4400" spc="-1" strike="noStrike">
              <a:solidFill>
                <a:srgbClr val="000000"/>
              </a:solidFill>
              <a:latin typeface="Times New Roman"/>
            </a:endParaRPr>
          </a:p>
        </p:txBody>
      </p:sp>
      <p:sp>
        <p:nvSpPr>
          <p:cNvPr id="42" name=""/>
          <p:cNvSpPr/>
          <p:nvPr/>
        </p:nvSpPr>
        <p:spPr>
          <a:xfrm>
            <a:off x="0" y="914400"/>
            <a:ext cx="914400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ière n. f. Boisson alcoolisée produite par la fermentation du malt dans de l’eau. Les bières sont parfumées par des fleurs de houblon (bière blonde), du caramel (bière brune), des piments (bière âcre). Une chope de bière, une canette de bière. ­ Bière à la pression, tirée directement du tonneau grâce à la pression des gaz qu’elle dégage. ¶ Fig., fam. C’est de la petite bière, une affaire sans importa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5:09:56Z</dcterms:created>
  <dc:creator>mr</dc:creator>
  <dc:description/>
  <dc:language>en-US</dc:language>
  <cp:lastModifiedBy>mr</cp:lastModifiedBy>
  <dcterms:modified xsi:type="dcterms:W3CDTF">2001-05-09T15:11:14Z</dcterms:modified>
  <cp:revision>1</cp:revision>
  <dc:subject/>
  <dc:title>La Bière </dc:title>
</cp:coreProperties>
</file>