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C5CD-8E80-4B97-9AB0-D0E0E33B0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1250-7511-405A-A4DF-3FC383B04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0E20-2BD2-4A50-9968-4DF5553DB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6B04-3E73-456F-BDD4-C6B427B76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BB15-5412-49B0-AB92-F2A1280FE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3F75-5FB7-4364-884B-59F35B735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8DB8-EADE-4302-89AF-F616A21EE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2FCF-F870-4090-957D-949E03C59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224B-4A92-4BFA-87DC-5CBE5EE53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9F17-A7D7-465C-9399-51E40282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E6F2-A229-4A35-9CDE-A6FF010F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A576-98E4-4D03-A17D-79A93F41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4F7C1-E2E6-4EFA-A1BC-5F6CA60CF6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Gutenber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Johannes Gensfleisch, dit) (Mayence, entre 1394 et 1399 ­ id., 1468), imprimeur allemand. Il perfectionna l’imprimerie en mettant au point les caractères typographiques de métal mobiles. Il travailla à Strasbourg entre 1430 et 1444 avant de regagner Mayence. Gutenberg aurait imprimé des feuilles mobiles qui marquent le début de la presse, un Calendrier astronomique, une Bible dite «à quarante-deux lignes» ou «Bible de Gutenberg», une Bible «à trente-six lignes» et des Lettres d’indulgence. Protégé par Adolphe de Nassau, archevêque de Mayence, il put y fonder, en 1465, une nouvelle imprimeri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9T14:50:55Z</dcterms:created>
  <dc:creator>mr</dc:creator>
  <dc:description/>
  <dc:language>en-US</dc:language>
  <cp:lastModifiedBy>mr</cp:lastModifiedBy>
  <dcterms:modified xsi:type="dcterms:W3CDTF">2001-05-09T14:59:33Z</dcterms:modified>
  <cp:revision>2</cp:revision>
  <dc:subject/>
  <dc:title>Gutenberg  (Johannes Gensfleisch, dit) (Mayence, entre 1394 et 1399 ­ id., 1468), imprimeur allemand. Il perfectionna l’imprimerie en mettant au point les caractères typographiques de métal mobiles. Il travailla à Strasbourg entre 1430 et 1444 avant de regagner Mayence. Gutenberg aurait imprimé des feuilles mobiles qui marquent le début de la presse, un Calendrier astronomique, une Bible dite «à quarante-deux lignes» ou «Bible de Gutenberg», une Bible «à trente-six lignes» et des Lettres d’indulgence. Protégé par Adolphe de Nassau, archevêque de Mayence, il put y fonder, en 1465, une nouvelle imprimerie. </dc:title>
</cp:coreProperties>
</file>