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3E78-5ABE-4DF1-AD2D-2F56E79A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399-167C-4ECE-B478-65EDA0AB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BA30-F417-44FE-A686-09B2BCAE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6D0C-11D6-4A72-8349-736724B7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DED-BAA3-4175-A75B-DBCDD914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EC85-2E70-471B-97DC-6B08B1AB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A155-3F5B-4688-9CDE-34D6950E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225-5748-447A-A69E-EDB5BE03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D3FF-95CD-4545-90C2-ECD6553E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472-DD4D-4283-823C-16875048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3334-3E77-4588-AF42-AF7DBDFE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D05-CAA4-40E4-820E-4811376B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3FFC-1316-43D4-916A-D6C0BE73A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" y="17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0" y="29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kro13" descr="tiens, une Kro !!!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5:29:44Z</dcterms:created>
  <dc:creator>mr</dc:creator>
  <dc:description/>
  <dc:language>en-US</dc:language>
  <cp:lastModifiedBy>mr</cp:lastModifiedBy>
  <dcterms:modified xsi:type="dcterms:W3CDTF">2001-05-09T15:32:31Z</dcterms:modified>
  <cp:revision>1</cp:revision>
  <dc:subject/>
  <dc:title>Présentation PowerPoint</dc:title>
</cp:coreProperties>
</file>